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F4B-8462-4FD5-960B-7A6A28EE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394-5109-49BD-929C-0EA4CD5A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6BF-B4C2-407E-B2FE-5D4983C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3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4140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85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13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4140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88A-5BC9-4B45-AF0C-522B421B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22C6-CE7B-4BB2-829C-573A3D1A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311D-E85F-4BBC-91BD-B33122E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D206-24DF-4F3F-8D87-00D57449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858-95C4-4298-8C1A-39D2570D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8BE-668E-478A-AA39-B962F922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706F-EBF8-4073-982B-985BF39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AA9-255D-4DCB-8719-76D58AE0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711-751F-4791-BE2B-1CDBD8B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C024-B10F-4245-89DD-F30CF86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322E-1F04-4773-B88C-9FF4178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AEB2-391E-4ADE-AB05-2C8CDB77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CB9-E705-4F01-B691-29798502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13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4140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85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13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4140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82F4-7B14-42F7-8066-3F40A91E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477-C3A1-4E58-A66D-690B4EC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3BF-1376-4C9A-9F57-50B2DF0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D39-B470-418C-946B-76AEB38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CA4-4150-4C36-A31B-E449AA6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C45-EE56-404F-AE80-566AB3E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F75-83F9-4B5B-9C14-4580E1D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CFC-BA8E-48A0-89C3-AA1D4C4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440"/>
              <a:ext cx="10778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7784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C93D0525-2CE0-4EB1-B7F1-0317C75ECD89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440"/>
              <a:ext cx="19652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652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CB69AC10-DF6A-4E9A-AA3F-A6D753C06628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Nonverbal Communication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dy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unspoken communication through physical movements, expressions, and ges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nguage may help or hinder your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2B0-F46C-4033-9544-B77EED020B1E}" type="slidenum">
              <a:t>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Nonverbal Communication (cont’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the interviewer’s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terviewer’s body language conveys something negative – think about what you are doing or s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what need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99E-8D7C-4454-BD64-267B234E705C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Asking Questions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52352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s involve two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ly, the interviewer asks you questions, but also expects you to ask a few questions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806-8599-468F-B6A9-FE306A199717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oncluding the Interview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iew is almost over and the employer has not said when a decision will be made – what do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ne mistake at the end of a job interview:  NOT ASKING FOR THE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the interviewer, Shake hands, and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5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BA8-73A4-4AD8-BF7E-34E8C83C327C}" type="slidenum">
              <a:t>4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22:36:29Z</dcterms:created>
  <dc:creator>M. C. McLaughlin</dc:creator>
  <dc:description/>
  <dc:language>en-US</dc:language>
  <cp:lastModifiedBy>LDSD</cp:lastModifiedBy>
  <dcterms:modified xsi:type="dcterms:W3CDTF">2010-01-03T20:44:13Z</dcterms:modified>
  <cp:revision>32</cp:revision>
  <dc:subject/>
  <dc:title>CHAPTER 5 INTERVIEWING FOR A JOB</dc:title>
</cp:coreProperties>
</file>